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110E-FBCE-4370-8EDF-DF42D88BE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AD86-4474-491D-9FB3-A87553EE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6820-D525-496F-822F-92C9FBD1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819A-6FF1-46DD-8C0A-9D0F1B57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8D62-2511-4ACA-9718-89DF58EA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B5A5-1399-4C4B-A13B-92E0B020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8DB7-A184-44C1-B0F2-BE57EC2D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B49E-530A-4547-B4D6-A146D725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86C1-AE9F-4C01-BA28-51E95972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78BA-DDCD-4ABF-8D3F-2FD6C34F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5F31-FDF1-4A15-9582-6C40B3C56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90F0-A848-42EC-B9A8-19F399D41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powerpoint slide 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powerpoint slide 4.jpg"/>
          <p:cNvPicPr/>
          <p:nvPr/>
        </p:nvPicPr>
        <p:blipFill>
          <a:blip r:embed="rId2"/>
          <a:stretch/>
        </p:blipFill>
        <p:spPr>
          <a:xfrm>
            <a:off x="0" y="-3049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21D3-D244-467E-9498-BE8A69E119B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C933-651D-4BDC-8FCF-6F88D680A8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6" descr="powerpoint slide 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5429160" y="285840"/>
            <a:ext cx="27100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Verdana"/>
              </a:rPr>
              <a:t>Senior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powerpoint slide 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6" descr="powerpoint slide 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3"/>
          <p:cNvSpPr/>
          <p:nvPr/>
        </p:nvSpPr>
        <p:spPr>
          <a:xfrm>
            <a:off x="5429160" y="285840"/>
            <a:ext cx="27100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Verdana"/>
              </a:rPr>
              <a:t>Senior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1"/>
          <p:cNvSpPr/>
          <p:nvPr/>
        </p:nvSpPr>
        <p:spPr>
          <a:xfrm>
            <a:off x="285840" y="107172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Task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2"/>
          <p:cNvSpPr/>
          <p:nvPr/>
        </p:nvSpPr>
        <p:spPr>
          <a:xfrm>
            <a:off x="285840" y="1643040"/>
            <a:ext cx="85723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Calibri"/>
              </a:rPr>
              <a:t>Chosen opportunities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Calibri"/>
              </a:rPr>
              <a:t>Pos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4"/>
          <p:cNvSpPr/>
          <p:nvPr/>
        </p:nvSpPr>
        <p:spPr>
          <a:xfrm>
            <a:off x="5786280" y="114300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Group 1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1"/>
          <p:cNvSpPr/>
          <p:nvPr/>
        </p:nvSpPr>
        <p:spPr>
          <a:xfrm>
            <a:off x="285840" y="107172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Task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"/>
          <p:cNvSpPr/>
          <p:nvPr/>
        </p:nvSpPr>
        <p:spPr>
          <a:xfrm>
            <a:off x="285840" y="1643040"/>
            <a:ext cx="85723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Calibri"/>
              </a:rPr>
              <a:t>Chosen opportunities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Calibri"/>
              </a:rPr>
              <a:t>Practic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4"/>
          <p:cNvSpPr/>
          <p:nvPr/>
        </p:nvSpPr>
        <p:spPr>
          <a:xfrm>
            <a:off x="5786280" y="114300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Group 1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1"/>
          <p:cNvSpPr/>
          <p:nvPr/>
        </p:nvSpPr>
        <p:spPr>
          <a:xfrm>
            <a:off x="285840" y="107172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Task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"/>
          <p:cNvSpPr/>
          <p:nvPr/>
        </p:nvSpPr>
        <p:spPr>
          <a:xfrm>
            <a:off x="285840" y="1643040"/>
            <a:ext cx="85723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Calibri"/>
              </a:rPr>
              <a:t>Chosen challenge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Calibri"/>
              </a:rPr>
              <a:t>Pos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4"/>
          <p:cNvSpPr/>
          <p:nvPr/>
        </p:nvSpPr>
        <p:spPr>
          <a:xfrm>
            <a:off x="5786280" y="114300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Group 1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1"/>
          <p:cNvSpPr/>
          <p:nvPr/>
        </p:nvSpPr>
        <p:spPr>
          <a:xfrm>
            <a:off x="285840" y="107172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Task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"/>
          <p:cNvSpPr/>
          <p:nvPr/>
        </p:nvSpPr>
        <p:spPr>
          <a:xfrm>
            <a:off x="285840" y="1643040"/>
            <a:ext cx="85723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Calibri"/>
              </a:rPr>
              <a:t>Chosen challenge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Calibri"/>
              </a:rPr>
              <a:t>Practic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4"/>
          <p:cNvSpPr/>
          <p:nvPr/>
        </p:nvSpPr>
        <p:spPr>
          <a:xfrm>
            <a:off x="5786280" y="114300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Group 1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3:45:17Z</dcterms:created>
  <dc:creator>M Jack</dc:creator>
  <dc:description/>
  <dc:language>en-US</dc:language>
  <cp:lastModifiedBy>JMH</cp:lastModifiedBy>
  <dcterms:modified xsi:type="dcterms:W3CDTF">2009-11-07T11:43:00Z</dcterms:modified>
  <cp:revision>151</cp:revision>
  <dc:subject/>
  <dc:title>Slide 1</dc:title>
</cp:coreProperties>
</file>